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5789-C332-4F6A-8732-1D3DF584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EE66-0760-4DE5-BB0F-C48A7EC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788C-E57C-4FC8-BEF4-00C9AF1F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492C-DB4C-4187-97CC-FDEC956C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F6C6-04B6-4357-973A-80B087CE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1BA0-E424-4532-99D5-AF69A1D9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3D9C-109D-4D21-9C7F-88C87235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1185-B80A-45EB-B3D4-82BFACA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D01C-BD73-49AF-9AF1-941FDADF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9E6E-D19E-445A-8BBD-B6C34CF2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A89E-3005-4373-8049-019B4C95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7756-692F-448C-B8B7-9CB332D1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FF1D-8B50-44EB-88D1-65F387E7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1DEB-BFA8-4087-A5D1-C5A7E410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F1F9-D4E1-4CDF-905E-03384474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E61B-8C2D-4684-B154-8DCDFC8D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368E-6E50-46AC-9DE2-FB6742C2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CC49-44EE-4ADB-9DC9-D6320C5C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B831-6393-4642-91FD-0120A3C2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B9FD-3BAE-4FE2-AB20-43A9CAB4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BB1B-FDDF-4C4D-8071-DBB99F3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083E-A7F3-400F-975C-CB131BD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5448-2C88-48E9-8E5A-AE6BF53A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AFEC-9A7C-45E1-8BE5-96724072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1B53-1216-46F1-8640-D66208437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D1D2-FFCF-4831-8A91-1DA6E9F3A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allac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een comm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Fall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gative form, called “damning the origin”; in positive form, could be called “blessing the origin,” a kind of appeal to autho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argument to abstain from recreational drugs makes you sound like Nancy Rea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So?  Whatever you think of the former First Lady, an argument is neither right nor wrong for her—or for anyone’s—espous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oratio elen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ttempting to demonstrate one thesis while in fact demonstrating a different, irrelevant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shall prove Religion X to be true by showing that human beings are immoral without belief in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While belief in a God may have moral effects, it does nothing to show whether Religion X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ed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, loade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an attempt to bias the audience by the use of words chosen for their strong connotativ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rorists” or “freedom-fighter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ime” or “governmen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an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rguing that because it hasn’t been done or thought of before that it must be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gumentum ad antiquita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ppeal to tra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none of our scientists has ever even considered this theory before; if it were right, they would have thought of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Isaac Newton never imagined the Internet,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making an issue more simple than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the only way to solve child-behavior problems is to spank you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Even supposing spanking does work, what about talking to your children?  Spending quality time with them?  Seeing to it that they are involved in significant ways with their peers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soning the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 hom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asting doubt, aspersions or some other pall over an argument by creating negative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geo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gument that people should be free to pursue private interes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“Bourgeois” is used in an abusive way to make what comes next sound bad; it has nothing to do with the arg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ndum 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hasty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oming to a conclusion based on scant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went out with three women, and they all dumped me.  I must not be attractive to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Keep up that kind of thinking, and you’re bound to be unlucky in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t’s related to “amphib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a phrase or sentence that may have more than one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just can’t say enough good about this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mea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just nothing good to say about this person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son’s merits are so high they defy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ulum, argumentum 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th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issuing threats of force or violence to win agreement instead of by the weight of the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you don’t join my church, you’re going to go to 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Perhaps so, but this doesn’t really help me in my delib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fur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false dicho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limiting choices to only two when there are more option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’re either with America, or you’re with the terro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One may not necessarily agree with either party or its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reasoning that what is true of the parts must be true of the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s the fallacy of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basketball team has five all-stars in its starting line up.  They’ll be sure to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Not so fast.  Each player may be a prima donna who doesn’t “play well with oth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ning the alter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laiming one argument to be right because an opposing argument i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other reasons have been shown wrong; this one must be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This one could be incorrect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ther reasons have been wrong may be reaso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, but not to accept it as correct without delib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ssuming that what is true of the whole is true of the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s fallacy of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 went to Oxford.  She must be exceptionally bril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Not necessarily.  While Oxford may have many smart people in its halls and on the whole be a smart place, it doesn’t mean this pers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using the same words in more than one sense within the same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andy bar is better than nothing.  Nothing is better than love.  So, a candy bar is better than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“Nothing” is being used in two different senses, so the conclusion cannot follow from the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al pru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“pruning” meaning from a word’s generally accepted usage in order to save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know I told you I’d buy you a drink.  I just got you a s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the commonly understood sense of the term would mean an alcoholic drink; the arguer is relying on the word’s multiple meanings to weasel his way out of a prom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5:42:44Z</dcterms:created>
  <dc:creator>csclab</dc:creator>
  <dc:description/>
  <dc:language>en-US</dc:language>
  <cp:lastModifiedBy>csclab</cp:lastModifiedBy>
  <dcterms:modified xsi:type="dcterms:W3CDTF">2010-01-14T21:56:13Z</dcterms:modified>
  <cp:revision>21</cp:revision>
  <dc:subject/>
  <dc:title>Logical Fallacies</dc:title>
</cp:coreProperties>
</file>